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E0C-6833-4B32-829C-1F450A8D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23F-0517-4445-B1F4-2DA9ECF8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092-2F90-4700-95D3-3E1718BE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9CA-930C-49BE-9430-B2EB9C78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505-05DD-40ED-9334-749F12D1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621-62B4-47B3-939A-1C4C885A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7CF-3314-42AC-B742-80367138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1C2-39FC-4117-BD33-0C56E13C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167-E5B2-4A6F-80D1-0DE0E9BE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BFE-912A-4B50-B548-7CABAEB1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02E-D07F-464D-9543-E6FAEEB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8AE-4C69-4EF6-906E-F3F46AF1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C6F-A791-4D87-80A2-EF4A906E9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looked at variations in Finches &amp; Marine Iguanas on the Galapagos isla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vironmental factors control who lives and who dies, in other words,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heory of evolution states that violent events cause rapid periods of evolution, peri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believe that” this theory states that the first living things were unicellular and anaerob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group of organisms that can interbr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iome contains  “Mainely” conifers, Moose, and black b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cycle nutrients from dead organisms back into “de” environ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ype of symbiosis involves two organisms benef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limax community completes this pro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is the “father” of geneti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21337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be “blue” these hereditary factors control what is passed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tates that some traits will hide or mask the weaker o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ype of inheritance involves offspring having a different phenotype and genotype when compared to the par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chniques is now used to produce antibiotics and hormones such as insulin for human 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get this you multiply the ocular by the objective lens you are us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normal condition doesn’t change in an experiment but it lets you see how much your experiment do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contains the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order for experiments to be valid they must b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unit of measure will come in handy under the scope, it equals 0.1 m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9072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200400" y="1219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c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0666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herit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1219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In the 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1143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y body &amp; 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0666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 fine breed ind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05120" y="114300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volve or d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basic unit of your bo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structures fight invaders (pathogens) like bacteria and viru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666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ctually contains a weakened less harmful version of a dis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ntains folds that help you to absorb most of your digested foo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2514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rtilization takes place in th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981080"/>
            <a:ext cx="716292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enetic Enginee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2955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how an animal is clon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95596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ransferring the DNA from the nucleus of one cell into an egg of that an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is type of reproduction two cells from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iosis (Reduction divi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e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metoge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9520" y="2666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les Dar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getative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nctuated Equilib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terotroph Hypo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word, this divides the chromosome number exactly in ha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133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logical Succ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w of Dom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19810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mediate inheri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 spli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tal magn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izard can “regrow” a stubby tail using this pro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ea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me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te Blood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c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lopian Tubules (oviduc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a “game” to be taken lightly, this process produces the sex ce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oning of plants involves this two word pro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560" y="2758320"/>
            <a:ext cx="82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h!  His theory of evolution was proven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52:12Z</dcterms:modified>
  <cp:revision>71</cp:revision>
  <dc:subject/>
  <dc:title>June 17 Jeopardy</dc:title>
</cp:coreProperties>
</file>